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EF1E-E426-4E2E-A562-53BC3AFFA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2989-EA90-4F9E-B207-B7788E31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F648-4637-4CEF-9B76-127C9E06B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3295-C76F-4342-B674-5C6F27E5A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9DBA-1162-4D67-8DD0-D2470FBCE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6BF4-CC62-4190-9CA3-9527E1F6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0EE7D-71B2-4A09-86BB-809DF96E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EC441-7761-46F1-9E4D-02FAEECF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556D-3D46-4B03-806A-25BB10FE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CFB0B-E0E2-4EE1-A910-E1035CC0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9C7D6-E983-424F-BE41-D1872CC9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AA84-67BD-4F61-93F1-4311997D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FE61E-0B58-4770-858F-31E13830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5467F-DF2E-4AF8-9B07-AB672AA2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BA46-B2D3-48B8-9602-D591821D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530D-856C-468A-88EC-46E16F5D5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E24A-5833-4451-BD4E-3ABC5C394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152CA-1328-4CB7-B04F-821DD078F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77FFF-7983-44C8-AF7B-C47031F1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8C46E-8965-480B-9F81-76DC9CB9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A7422-1998-4689-AC1F-9210F602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D6676-AD2D-4C59-8CE7-8AB47159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85B8-04DC-4294-9D02-55B6C0D4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34BB7-DD96-4280-B4ED-916DC298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C9D40-2EEC-49AC-AE95-9060D330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4068E-22DE-4BC7-B801-DE2C1186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5EA09-F994-433C-8A81-52BED17D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0BC02-0C40-4F59-94BA-C22EC9F2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9E0E9-F6BB-4410-9ED2-2A0F214DC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0A5FF-BE00-4B85-8082-473685C4E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07EA-ACC1-4CF9-90A2-44BC8643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A34B-514A-4962-94A8-2DDEF751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84A2-4302-4EB9-90E9-D74EACCB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5AB2-A536-428A-8BE4-EBD9FC2C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16F4-91F7-42FC-AAD6-58D7C1A7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F591-258C-4F7B-AB37-30D18CF4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1531-0BA1-4493-92B8-8126849210ED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48DB-611A-4630-B18B-CE7F79FEB7BB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2C30-2682-47FC-9BB2-E05A7ED679D3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908000" y="1557360"/>
            <a:ext cx="5328000" cy="2448000"/>
          </a:xfrm>
          <a:prstGeom prst="rect">
            <a:avLst/>
          </a:prstGeom>
        </p:spPr>
        <p:txBody>
          <a:bodyPr wrap="none" lIns="110160" rIns="110160" tIns="55080" bIns="55080" anchor="t" anchorCtr="1">
            <a:prstTxWarp prst="textPlain">
              <a:avLst>
                <a:gd name="adj" fmla="val 52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rogram cezhraničnej spolupráce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aďarská republika- Slovenská republika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007-2013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1535400" y="4508640"/>
            <a:ext cx="6009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chválenie: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20. december 2007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Identifikačné číslo: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2007CB163PO0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31960" y="5495760"/>
            <a:ext cx="1959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g. Zsolt Törö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Bratislava, 28.02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79280" y="1197000"/>
            <a:ext cx="8642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Priamy prín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Zabezpečená finančná alokácia za prísne definovaných podmieno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Odborné pozadie, transfer know-how, 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Nepriamy prín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ytvorenie, posilnenie nových/existujúcich partnerstiev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ytvorenie/posilnenie komunikácie na úrovni vertikálnej a horizontálnej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realizácia „zdola“ (bottom-up) vychádzajúcich rozvojových zámerov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osilnenie konkurencieschopnosti regiónov, 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57800" y="35100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ínos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322200" y="981000"/>
          <a:ext cx="8353440" cy="5106960"/>
        </p:xfrm>
        <a:graphic>
          <a:graphicData uri="http://schemas.openxmlformats.org/drawingml/2006/table">
            <a:tbl>
              <a:tblPr/>
              <a:tblGrid>
                <a:gridCol w="2089080"/>
                <a:gridCol w="2089440"/>
                <a:gridCol w="2085840"/>
                <a:gridCol w="2089080"/>
              </a:tblGrid>
              <a:tr h="107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are CBC (Cross-border Co-operation) 2001-20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nd malých projekt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am susedstva HUSKUA 2004-200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</a:t>
                      </a: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výz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am cezhraničnej spolupráce HUSK 2007-20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 </a:t>
                      </a: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výz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nčná aloká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U: 372 000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: 372 000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U: 8 522 875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: 5 548 000 EUR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 014 050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y projekt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ividuáln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očný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Zrkadlový, - Doplňujúc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dividuáln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očn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čet exemplár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originál+ 7 kópií + elektronický nosi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originál+ 5 kópií + elektronický nosi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originál+ 2 kópií + elektronický nosi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čet podporených projekt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1 program (HU0109): 9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 program (2002/000-604): 11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6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čakávania program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zhraničný dop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ezhraničný dopad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spodárnos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ezhraničný dopad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spodárnos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rvalá udržateľnos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vnosť šancí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kritériá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cíp vedúceho partner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7094160" y="32400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Evolúcia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9280" y="119700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..... prebieha </a:t>
            </a:r>
            <a:r>
              <a:rPr b="0" lang="sk-SK" sz="2400" spc="-1" strike="noStrike">
                <a:solidFill>
                  <a:srgbClr val="ff3300"/>
                </a:solidFill>
                <a:latin typeface="Calibri"/>
              </a:rPr>
              <a:t>3.výzva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na prekladanie projektov, </a:t>
            </a:r>
            <a:r>
              <a:rPr b="0" lang="sk-SK" sz="2400" spc="-1" strike="noStrike">
                <a:solidFill>
                  <a:srgbClr val="ff3300"/>
                </a:solidFill>
                <a:latin typeface="Calibri"/>
              </a:rPr>
              <a:t>do 28.02.2011, 23.59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55280" y="351000"/>
            <a:ext cx="23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omentálne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15394" t="21474" r="13619" b="28986"/>
          <a:stretch/>
        </p:blipFill>
        <p:spPr>
          <a:xfrm>
            <a:off x="539640" y="1844640"/>
            <a:ext cx="770436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156360" y="351000"/>
            <a:ext cx="21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merujeme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1552680"/>
            <a:ext cx="8856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..... k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4.výzve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na prekladanie projekto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redpokladaný termín zverejnenia: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2.štvrťrok 2011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redpokladaná alokácia: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cca.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48 ME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Oblasti podpory: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 ?, predmetom rokovania SM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Finančná alokácia 1. výzvy: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45 009 737,12 EUR,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(246/</a:t>
            </a: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106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projekto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Finančná alokácia 2. výzvy: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64 635 978,32 EUR, (270/</a:t>
            </a: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107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projekto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Predp. finančná alokácia 3. výzvy (EUR):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10 500 000,00 (?/</a:t>
            </a: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 flipV="1" rot="10800000">
            <a:off x="5586480" y="1051560"/>
            <a:ext cx="3240000" cy="8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Prioritné osy a oblasti podp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03640" y="2565360"/>
            <a:ext cx="3999240" cy="34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T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1 </a:t>
            </a:r>
            <a:br>
              <a:rPr sz="1700"/>
            </a:b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Hospodárstvo a spoločnosť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700" spc="-1" strike="noStrike">
                <a:solidFill>
                  <a:srgbClr val="ff3300"/>
                </a:solidFill>
                <a:latin typeface="Arial"/>
              </a:rPr>
              <a:t>41% (85 133 595 EU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T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700"/>
            </a:br>
            <a:r>
              <a:rPr b="1" lang="pl-PL" sz="1700" spc="-1" strike="noStrike">
                <a:solidFill>
                  <a:srgbClr val="000000"/>
                </a:solidFill>
                <a:latin typeface="Arial"/>
              </a:rPr>
              <a:t>ŽP, ochrana prírody a dostupnosť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700" spc="-1" strike="noStrike">
                <a:solidFill>
                  <a:srgbClr val="ff3300"/>
                </a:solidFill>
                <a:latin typeface="Arial"/>
              </a:rPr>
              <a:t>53% (110 050 746 EU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T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1700"/>
            </a:b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Technická asistenc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700" spc="-1" strike="noStrike">
                <a:solidFill>
                  <a:srgbClr val="ff3300"/>
                </a:solidFill>
                <a:latin typeface="Arial"/>
              </a:rPr>
              <a:t>6% (12 458 575 EU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716000" y="1773360"/>
            <a:ext cx="64764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0" y="-27000"/>
            <a:ext cx="4629240" cy="6867360"/>
            <a:chOff x="0" y="-27000"/>
            <a:chExt cx="4629240" cy="6867360"/>
          </a:xfrm>
        </p:grpSpPr>
        <p:sp>
          <p:nvSpPr>
            <p:cNvPr id="139" name=""/>
            <p:cNvSpPr/>
            <p:nvPr/>
          </p:nvSpPr>
          <p:spPr>
            <a:xfrm>
              <a:off x="0" y="-27000"/>
              <a:ext cx="4629240" cy="6867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47680" y="161280"/>
              <a:ext cx="2296440" cy="7221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ogram cezhraničnej spoluprác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Maďarsko -Slovensk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2007 - 20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14440" y="864360"/>
              <a:ext cx="0" cy="546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36480" y="1026720"/>
              <a:ext cx="167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488240" y="1026720"/>
              <a:ext cx="4824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88880" y="1026720"/>
              <a:ext cx="4824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4480" y="1135080"/>
              <a:ext cx="1567440" cy="6483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IORITNÁ OS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Hospodárstvo a spoločnos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18320" y="17301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8680" y="1730160"/>
              <a:ext cx="0" cy="427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64400" y="17301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210200" y="1730160"/>
              <a:ext cx="11520" cy="362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08480" y="1135080"/>
              <a:ext cx="1567800" cy="6483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IORITNÁ OS 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ŽP,</a:t>
              </a: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 </a:t>
              </a: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chrana prír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a dostupnos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64480" y="189252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odpora spolupráce     v oblasti hospodárstva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4480" y="254124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upráca v oblasti V&amp;V a inováci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08480" y="1892520"/>
              <a:ext cx="1549440" cy="707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é aktivity              na podporu ochrany prír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08480" y="2757960"/>
              <a:ext cx="1549440" cy="548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é aktivity ochrany prír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8680" y="221652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8680" y="286524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64400" y="227052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97000" y="6326280"/>
              <a:ext cx="2236320" cy="3776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IORITNÁ OS 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Technická asistenc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4480" y="319068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odpora spoločného rozvoja turizm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64480" y="3785760"/>
              <a:ext cx="1555920" cy="640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ý rozvoj a koordinované využívanie zdravotníckych zariadení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4480" y="4542480"/>
              <a:ext cx="1555920" cy="480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5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Rozvoj sieťovania,partnerstva,  prog. &amp; proj. kapacít manažm.</a:t>
              </a:r>
              <a:r>
                <a:rPr b="0" lang="en-GB" sz="9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4480" y="513756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é využívanie a rozvoj ľudských zdrojo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4480" y="5786280"/>
              <a:ext cx="1555920" cy="388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Aktivity Ľudia ľuď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18680" y="34599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8680" y="41637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8680" y="475884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8680" y="529992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8680" y="600228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08480" y="3406680"/>
              <a:ext cx="1549440" cy="707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Výstavba maloplošných komunikácií, cyklistických trás, verejná doprav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08480" y="4272120"/>
              <a:ext cx="1549440" cy="70812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Zabezpečenie lepších hraničných prechodov cez prihraničné rie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08480" y="5137560"/>
              <a:ext cx="1549440" cy="548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Zlepšenie komunikačných kanálo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64400" y="31359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64400" y="383940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64400" y="454248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64400" y="53535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Szöveg helye 2"/>
          <p:cNvGraphicFramePr/>
          <p:nvPr/>
        </p:nvGraphicFramePr>
        <p:xfrm>
          <a:off x="2211480" y="115920"/>
          <a:ext cx="4592520" cy="61214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77" name="Szöveg helye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11480" y="115920"/>
                    <a:ext cx="4592520" cy="61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142920" y="1989000"/>
            <a:ext cx="8893080" cy="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04000" y="765000"/>
            <a:ext cx="216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vostupňová kontrola 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na úrovni partnera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(MPaRV S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372000" y="1125360"/>
            <a:ext cx="433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77080" y="3284640"/>
            <a:ext cx="2160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ruhostupňová  kontrola 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na úrovni projekt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(STS Program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30+30 d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6372000" y="3789360"/>
            <a:ext cx="433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360" y="1076400"/>
            <a:ext cx="150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Zodpovedný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aždý partn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za se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1440" y="3387600"/>
            <a:ext cx="150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Zodpovedný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edúci part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63640" y="148428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63640" y="364500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156360" y="3510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kúsenosti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9280" y="1268280"/>
            <a:ext cx="88567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MIS (podávanie ŽoNFP, monitorovacia správa na úrovni projekt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Obľúbené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versus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menej obľúbené oblasti podp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pružné/nasilu vytvorené partnerstvá (počet partnerov, hodnotenie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versus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implementáci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dostatočná komunikácia (vertikálna, horizontál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dsotatočné finančné zázemie (finančná kríz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únosné množstvo žiadostí o zmenu projektu (realokácia financií, zmena manažérov, predĺženie projektu,...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Odstúpenie od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+3/2 parvid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ízka kvalita predložených monitorovacích sprá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adhotnotené indiká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ublicity guide (striktné predpisy),..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79280" y="1844640"/>
            <a:ext cx="885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Ďakujem za pozornosť a v mene 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ám prajem veľa úspecho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i implementácii projekt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zabúdajte: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ak máte pochybnosti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pýtajte sa!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My sme tu pre Vás a Vy ste tu pre nás </a:t>
            </a:r>
            <a:r>
              <a:rPr b="0" lang="sk-SK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09:42:45Z</dcterms:created>
  <dc:creator>thomas</dc:creator>
  <dc:description/>
  <dc:language>en-US</dc:language>
  <cp:lastModifiedBy>TorokZsolt</cp:lastModifiedBy>
  <dcterms:modified xsi:type="dcterms:W3CDTF">2011-02-25T11:03:08Z</dcterms:modified>
  <cp:revision>39</cp:revision>
  <dc:subject/>
  <dc:title>1. dia</dc:title>
</cp:coreProperties>
</file>